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0DF-4525-42CC-BC29-AC7EF6B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97D-861A-4935-A830-AF1B9C5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598-E946-4DE1-A38A-26CD401D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BC3-AA57-44FA-A392-EA531D6C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71C-F2FA-42F3-96A2-B993AF9D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FFF-B413-40C4-BE54-B961833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435-B0F2-472D-93DD-B4186190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A83-343D-482C-A626-79C8D41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FCE-B84D-4F91-9C2D-A9FD07C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D98-FCB2-47CD-9851-E4BE436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750-A3A5-443F-93E5-377EE7C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B36-17A5-432D-9DF5-9BE8658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B3A-44C1-481A-A8FE-D71B7E989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нам приходят с бахчи полосатые мя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1773000"/>
            <a:ext cx="6193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teacher\Desktop\b-371358-Karpuz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teacher\Desktop\окр мир\0_8d7f9_d3cf7b62_XL[1].png"/>
          <p:cNvPicPr/>
          <p:nvPr/>
        </p:nvPicPr>
        <p:blipFill>
          <a:blip r:embed="rId1"/>
          <a:stretch/>
        </p:blipFill>
        <p:spPr>
          <a:xfrm>
            <a:off x="2700360" y="26028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teacher\Desktop\8f619a0ea4b0f0c7f6e2cde53c6e7ca4[1].jpg"/>
          <p:cNvPicPr/>
          <p:nvPr/>
        </p:nvPicPr>
        <p:blipFill>
          <a:blip r:embed="rId2"/>
          <a:stretch/>
        </p:blipFill>
        <p:spPr>
          <a:xfrm>
            <a:off x="4067280" y="2565360"/>
            <a:ext cx="2386080" cy="333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teacher\Desktop\iCABC72XR.jpg"/>
          <p:cNvPicPr/>
          <p:nvPr/>
        </p:nvPicPr>
        <p:blipFill>
          <a:blip r:embed="rId3"/>
          <a:stretch/>
        </p:blipFill>
        <p:spPr>
          <a:xfrm>
            <a:off x="6300720" y="328464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eacher\Desktop\0_42598_748d446d_XL[1].jpg"/>
          <p:cNvPicPr/>
          <p:nvPr/>
        </p:nvPicPr>
        <p:blipFill>
          <a:blip r:embed="rId4"/>
          <a:stretch/>
        </p:blipFill>
        <p:spPr>
          <a:xfrm>
            <a:off x="468360" y="342900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eacher\Desktop\x_fa16280d[1].jpg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teacher\Desktop\35677[1].jpg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teacher\Desktop\35700[1].jpg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рип, что за хрус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что ещё за кус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teacher\Desktop\0_5530f_93f3561_XL[1].png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а, рассыпчата, бела, на стол она с полей пришла. Ты посоли её немножко ведь, правда, вкусна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teacher\Desktop\z11[1].jpg"/>
          <p:cNvPicPr/>
          <p:nvPr/>
        </p:nvPicPr>
        <p:blipFill>
          <a:blip r:embed="rId1"/>
          <a:stretch/>
        </p:blipFill>
        <p:spPr>
          <a:xfrm>
            <a:off x="4932360" y="2565360"/>
            <a:ext cx="34304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нос в землю врос, а зелёный хвост с наружи. Нам зелёный хвост не нужен, нужен только красный н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teacher\Desktop\morkovka_02[1].jpg"/>
          <p:cNvPicPr/>
          <p:nvPr/>
        </p:nvPicPr>
        <p:blipFill>
          <a:blip r:embed="rId1"/>
          <a:stretch/>
        </p:blipFill>
        <p:spPr>
          <a:xfrm>
            <a:off x="1714680" y="2349360"/>
            <a:ext cx="571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 огороде свежие, зелёные, зимой в бочке жёлтые , солё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teacher\Desktop\0_1dd97_4e5a046c_XL[1].jpg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ёлтый, кисл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teacher\Desktop\iCABC72XR.jpg"/>
          <p:cNvPicPr/>
          <p:nvPr/>
        </p:nvPicPr>
        <p:blipFill>
          <a:blip r:embed="rId1"/>
          <a:stretch/>
        </p:blipFill>
        <p:spPr>
          <a:xfrm>
            <a:off x="1332000" y="1773360"/>
            <a:ext cx="6769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teacher\Desktop\0_5dc3d_bb4f6148_L[1].png"/>
          <p:cNvPicPr/>
          <p:nvPr/>
        </p:nvPicPr>
        <p:blipFill>
          <a:blip r:embed="rId1"/>
          <a:stretch/>
        </p:blipFill>
        <p:spPr>
          <a:xfrm>
            <a:off x="250920" y="350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teacher\Desktop\0_8d7e5_2a7ff05e_XL[1].png"/>
          <p:cNvPicPr/>
          <p:nvPr/>
        </p:nvPicPr>
        <p:blipFill>
          <a:blip r:embed="rId2"/>
          <a:stretch/>
        </p:blipFill>
        <p:spPr>
          <a:xfrm>
            <a:off x="3419640" y="1844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teacher\Desktop\0_8d7f9_d3cf7b62_XL[1].png"/>
          <p:cNvPicPr/>
          <p:nvPr/>
        </p:nvPicPr>
        <p:blipFill>
          <a:blip r:embed="rId3"/>
          <a:stretch/>
        </p:blipFill>
        <p:spPr>
          <a:xfrm>
            <a:off x="586728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577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eacher\Desktop\окр мир\0_5dc3d_bb4f6148_L[1].png"/>
          <p:cNvPicPr/>
          <p:nvPr/>
        </p:nvPicPr>
        <p:blipFill>
          <a:blip r:embed="rId1"/>
          <a:stretch/>
        </p:blipFill>
        <p:spPr>
          <a:xfrm>
            <a:off x="3203640" y="476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teacher\Desktop\morkovka_02[1].jpg"/>
          <p:cNvPicPr/>
          <p:nvPr/>
        </p:nvPicPr>
        <p:blipFill>
          <a:blip r:embed="rId2"/>
          <a:stretch/>
        </p:blipFill>
        <p:spPr>
          <a:xfrm>
            <a:off x="5508720" y="2924280"/>
            <a:ext cx="3166920" cy="331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teacher\Desktop\repa2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259092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eacher\Desktop\окр мир\0_5530f_93f3561_XL[1].png"/>
          <p:cNvPicPr/>
          <p:nvPr/>
        </p:nvPicPr>
        <p:blipFill>
          <a:blip r:embed="rId4"/>
          <a:stretch/>
        </p:blipFill>
        <p:spPr>
          <a:xfrm>
            <a:off x="2916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eacher\Desktop\окр мир\0_8d7e5_2a7ff05e_XL[1].png"/>
          <p:cNvPicPr/>
          <p:nvPr/>
        </p:nvPicPr>
        <p:blipFill>
          <a:blip r:embed="rId1"/>
          <a:stretch/>
        </p:blipFill>
        <p:spPr>
          <a:xfrm>
            <a:off x="3132000" y="260280"/>
            <a:ext cx="302580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eacher\Desktop\4[1].jpg"/>
          <p:cNvPicPr/>
          <p:nvPr/>
        </p:nvPicPr>
        <p:blipFill>
          <a:blip r:embed="rId2"/>
          <a:stretch/>
        </p:blipFill>
        <p:spPr>
          <a:xfrm>
            <a:off x="468360" y="3573360"/>
            <a:ext cx="2784600" cy="278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teacher\Desktop\окр мир\0_5530f_93f3561_XL[1].png"/>
          <p:cNvPicPr/>
          <p:nvPr/>
        </p:nvPicPr>
        <p:blipFill>
          <a:blip r:embed="rId3"/>
          <a:stretch/>
        </p:blipFill>
        <p:spPr>
          <a:xfrm>
            <a:off x="5940360" y="3645000"/>
            <a:ext cx="283680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eacher\Desktop\yabloko[1].jpg"/>
          <p:cNvPicPr/>
          <p:nvPr/>
        </p:nvPicPr>
        <p:blipFill>
          <a:blip r:embed="rId4"/>
          <a:stretch/>
        </p:blipFill>
        <p:spPr>
          <a:xfrm>
            <a:off x="3276720" y="2276640"/>
            <a:ext cx="274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8:23Z</dcterms:created>
  <dc:creator>teacher</dc:creator>
  <dc:description/>
  <dc:language>en-US</dc:language>
  <cp:lastModifiedBy>teacher</cp:lastModifiedBy>
  <dcterms:modified xsi:type="dcterms:W3CDTF">2012-05-27T07:39:32Z</dcterms:modified>
  <cp:revision>10</cp:revision>
  <dc:subject/>
  <dc:title>К нам приходят с бахчи полосатые мячи?</dc:title>
</cp:coreProperties>
</file>